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5416-B9E6-48AA-8645-C6C1D3130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370A-D87B-4EA2-B024-F60AB890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3F1E-9549-41C2-89B8-6321260FC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86BE-AFE3-49F2-A4A0-10C85CBA3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EED3-48B0-4006-84D2-EB75B6F4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CA7C-6F87-4737-8EAD-9E1CF828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08CC-F22C-49E4-AD15-F7753B35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B107-8DC8-4CAA-9B84-57D9FE8F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BE85-DFB4-4D4C-95B3-213A6BAD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6EFC-F1C2-4E66-BC29-AB101B3E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99B4-7BAC-4615-8FBC-3D03632A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B42B-5667-4592-91A7-C23312B3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2953-2DF1-4EF6-8756-2EE4AA5308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560" y="178560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性别：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年龄：</a:t>
            </a:r>
            <a:r>
              <a:rPr b="1" lang="en-US" sz="1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国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毕业院校及学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工作机构及职务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主要工作经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214200" y="28584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名</a:t>
            </a:r>
            <a:r>
              <a:rPr b="1" lang="en-US" sz="3700" spc="-1" strike="noStrike">
                <a:solidFill>
                  <a:srgbClr val="0070c0"/>
                </a:solidFill>
                <a:latin typeface="宋体"/>
              </a:rPr>
              <a:t> </a:t>
            </a: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姓（中文姓名）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4000" y="3141720"/>
          <a:ext cx="8377200" cy="2278080"/>
        </p:xfrm>
        <a:graphic>
          <a:graphicData uri="http://schemas.openxmlformats.org/drawingml/2006/table">
            <a:tbl>
              <a:tblPr/>
              <a:tblGrid>
                <a:gridCol w="2687760"/>
                <a:gridCol w="768240"/>
                <a:gridCol w="457200"/>
                <a:gridCol w="766800"/>
                <a:gridCol w="647640"/>
                <a:gridCol w="144360"/>
                <a:gridCol w="2905200"/>
              </a:tblGrid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职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国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单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0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4" name="TextBox 6"/>
          <p:cNvSpPr/>
          <p:nvPr/>
        </p:nvSpPr>
        <p:spPr>
          <a:xfrm>
            <a:off x="7000920" y="714240"/>
            <a:ext cx="15001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428760" y="214200"/>
            <a:ext cx="550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附件四     评审演示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模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4"/>
          <p:cNvSpPr/>
          <p:nvPr/>
        </p:nvSpPr>
        <p:spPr>
          <a:xfrm>
            <a:off x="539640" y="1197000"/>
            <a:ext cx="72723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项目单位及拟任职务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专项特长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539640" y="15573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项目单位评价</a:t>
            </a:r>
            <a:r>
              <a:rPr b="1" lang="en-US" sz="1800" spc="-1" strike="noStrike">
                <a:solidFill>
                  <a:srgbClr val="cc3300"/>
                </a:solidFill>
                <a:latin typeface="黑体"/>
                <a:ea typeface="黑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920520" y="549360"/>
            <a:ext cx="1308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单位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4"/>
          <p:cNvSpPr/>
          <p:nvPr/>
        </p:nvSpPr>
        <p:spPr>
          <a:xfrm>
            <a:off x="539640" y="1700280"/>
            <a:ext cx="41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评审专家评价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539640" y="549360"/>
            <a:ext cx="216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专家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8T01:36:42Z</dcterms:created>
  <dc:creator>Administrator</dc:creator>
  <dc:description/>
  <dc:language>en-US</dc:language>
  <cp:lastModifiedBy>User</cp:lastModifiedBy>
  <dcterms:modified xsi:type="dcterms:W3CDTF">2013-06-28T01:53:00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